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5A9-6CE9-4C95-9A71-7A7FB9F5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1D6-E712-43F0-8706-3EC01FA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05A-98D7-4737-9133-5F700939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37E-1757-4839-8FE3-527545A7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4869-68DF-4CDF-BEAA-617CA67C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D197-D2B8-45F6-B802-D12D4FB2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952B-409F-40C1-AFA2-CEA6C75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0A59-6344-45A8-818C-3D6D3D1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9F7-CC54-4B07-9812-31B99E2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1707-8FF6-4A03-8F32-3C35D6B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675C-D311-4189-8163-E90AAA9F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B58-8AB8-4DFA-9BA0-D51C4908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BF25-5F95-4923-B64F-47615B0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153D-06A3-46F2-AC6A-A0E0478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108-A2D7-4F0A-8FFC-2918C637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2FBE-DC84-4A90-BA58-1A3BB1D4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DFF-B005-4D39-9F33-BD622990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93E-25E1-41AF-8E1A-AF9F6E4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0D-2BEB-4663-88AD-C16FDA2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58F-7565-4BE6-B9CD-AC47B8B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8AA-5F19-4860-BDB3-CBAC4F1D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349-409F-4574-B6FC-33C9EAE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98E-396F-4318-8452-B792F68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76C-89BC-4159-B5F3-EC1170C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127C-5281-4663-AFC0-6F0F595098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D8C2-2E5B-4E44-A029-C3C1C34BB8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RÓWNOŚĆ UŁAMKÓ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1628640"/>
            <a:ext cx="62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awdź za pomocą osi liczbowej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ówność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ułam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581280" y="2732040"/>
            <a:ext cx="1525680" cy="787320"/>
            <a:chOff x="3581280" y="273204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7360" y="273204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3581280" y="2913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1280" y="5386320"/>
            <a:ext cx="1525680" cy="787320"/>
            <a:chOff x="3581280" y="5386320"/>
            <a:chExt cx="1525680" cy="78732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167360" y="5386320"/>
                  <a:ext cx="9396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3581280" y="555912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81280" y="3632040"/>
            <a:ext cx="1440000" cy="787320"/>
            <a:chOff x="3581280" y="36320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08400" y="3632040"/>
                  <a:ext cx="81288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581280" y="378144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581280" y="4508640"/>
            <a:ext cx="1440000" cy="787320"/>
            <a:chOff x="3581280" y="4508640"/>
            <a:chExt cx="1440000" cy="787320"/>
          </a:xfrm>
        </p:grpSpPr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233960" y="4508640"/>
                  <a:ext cx="787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3581280" y="46594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MNOŻENIE NA KRZY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22400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ą metodą sprawdzania, czy ułamki są sobie równe je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oda zwana „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odą na krzy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0336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kł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rawdzamy, czy podane ułamki są sobie rów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2573280"/>
                <a:ext cx="8427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07000" y="2575080"/>
                <a:ext cx="630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3541680" y="3117960"/>
            <a:ext cx="1141560" cy="704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41680" y="3117960"/>
            <a:ext cx="1141560" cy="7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97000" y="45435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3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7000" y="53974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ożym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 pierwsz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przez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 drugie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zyli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2 = 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42000" y="267192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my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3 = 1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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2360" y="30686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24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16640" y="3519360"/>
            <a:ext cx="3375000" cy="676440"/>
            <a:chOff x="5516640" y="3519360"/>
            <a:chExt cx="3375000" cy="676440"/>
          </a:xfrm>
        </p:grpSpPr>
        <p:sp>
          <p:nvSpPr>
            <p:cNvPr id="124" name=""/>
            <p:cNvSpPr/>
            <p:nvPr/>
          </p:nvSpPr>
          <p:spPr>
            <a:xfrm>
              <a:off x="5516640" y="3654360"/>
              <a:ext cx="337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łamki       i      są rów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642360" y="3519360"/>
                  <a:ext cx="34920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182000" y="3519360"/>
                  <a:ext cx="262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8:07Z</dcterms:modified>
  <cp:revision>42</cp:revision>
  <dc:subject/>
  <dc:title>Slajd 1</dc:title>
</cp:coreProperties>
</file>